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0FF-E4B7-4366-B6EB-8E0D83C5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12A-AC4C-4485-B7F6-9A89F80B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9D3-7F66-4624-AB5B-2824B146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CC3-60B1-44A6-ABE4-B511E332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6038-39DD-4E71-938D-87DBEDCF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DAC0-1BAE-4121-8D94-B64EF528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C815-8A20-4C0E-AF26-9C03EC41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81FC-EACC-48E3-BB44-58A00110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BE45-0543-426C-82BA-334FBF39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6995-1CCE-4C15-B351-185642D2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3440-BBF9-4DFE-9625-5BE77301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A57-161A-45A2-9D93-C3ED0FE0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28D2-A9B8-4F1D-918B-2AB52043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569F-9733-4EF0-986A-BD5ECB5D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61FA-AF85-4967-AF65-DD626F71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AF25-95D3-4C05-8F2F-A9523508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3581-BC53-4411-A023-05F0DC19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920-00AA-4759-8711-DE3FCB9E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AEE-6AAE-4A23-82EA-6BA9EBE2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3975-1A07-4FB4-8A75-6A07447C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50E-4DA0-439B-AB91-512F33A3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910-C187-4E83-879D-06007760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406-E066-482C-A38E-6F6405E3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034-CE2C-41DC-88E2-B423994D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72C6-0CE8-461E-A83D-5B7667F62CF1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DB97-71DC-4E13-9F10-8A5F01F698B1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4920" y="1066680"/>
            <a:ext cx="8610480" cy="5410440"/>
            <a:chOff x="304920" y="1066680"/>
            <a:chExt cx="8610480" cy="54104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304920" y="1066680"/>
              <a:ext cx="8610480" cy="54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7391520" y="2057400"/>
              <a:ext cx="146196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 txBox="1"/>
          <p:nvPr/>
        </p:nvSpPr>
        <p:spPr>
          <a:xfrm>
            <a:off x="1905120" y="45720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27 </a:t>
            </a: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蒙娜丽莎之约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5029200" cy="5181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715000" y="1371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画像概貌（尺寸、颜色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2514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面部表情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3276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神秘的微笑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4038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优雅的身姿、交叠的双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5181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空旷深远的背景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219320"/>
            <a:ext cx="4648320" cy="502920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295280"/>
            <a:ext cx="1828800" cy="175284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3809880"/>
            <a:ext cx="2666880" cy="236232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2057400"/>
            <a:ext cx="1067040" cy="83808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1295280"/>
            <a:ext cx="1371600" cy="129564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Verdana"/>
                <a:ea typeface="华文中宋"/>
              </a:rPr>
              <a:t>选读课文，理解句子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71440" y="3352680"/>
            <a:ext cx="5638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Verdana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Verdana"/>
              </a:rPr>
              <a:t>世界上最著名的肖像画”点明了《蒙娜丽莎》的艺术价值。能亲睹她的风采真是一种荣幸，也是一种享受，于是就有了纽约大都会博物馆前慕名而来的长龙一样的队伍，于是队伍之长远远超出了“我”的想象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19810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①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《蒙娜丽莎》是世界上最杰出的肖像画，世界上有多少人能亲睹她的风采呢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14600" y="1600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  <a:ea typeface="华文仿宋"/>
              </a:rPr>
              <a:t>②</a:t>
            </a:r>
            <a:r>
              <a:rPr b="1" lang="zh-CN" sz="3600" spc="-1" strike="noStrike">
                <a:solidFill>
                  <a:srgbClr val="3333ff"/>
                </a:solidFill>
                <a:latin typeface="Verdana"/>
                <a:ea typeface="华文仿宋"/>
              </a:rPr>
              <a:t>我随着队伍慢慢地走近她，心中涌起一种奇异的感觉。近了，更近了，蒙娜丽莎就像真人一样慢慢走近你。我终于跟她面对面了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05320" y="44193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这段话集中体现了作者迫不及待地想见到“蒙娜丽莎”的心情。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057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Verdana"/>
                <a:ea typeface="华文仿宋"/>
              </a:rPr>
              <a:t>③</a:t>
            </a:r>
            <a:r>
              <a:rPr b="1" lang="zh-CN" sz="3600" spc="-1" strike="noStrike">
                <a:solidFill>
                  <a:srgbClr val="008000"/>
                </a:solidFill>
                <a:latin typeface="Verdana"/>
                <a:ea typeface="华文仿宋"/>
              </a:rPr>
              <a:t>那微笑，有时让人觉得舒畅温柔，有时让人觉得略含哀伤，有时让人觉得十分亲切，有时又让人觉得有几分矜持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7760" y="3276720"/>
            <a:ext cx="5638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Verdana"/>
              </a:rPr>
              <a:t>当我们凝视达</a:t>
            </a:r>
            <a:r>
              <a:rPr b="1" lang="zh-CN" sz="3200" spc="-1" strike="noStrike">
                <a:solidFill>
                  <a:srgbClr val="3366ff"/>
                </a:solidFill>
                <a:latin typeface="Verdana"/>
              </a:rPr>
              <a:t>·</a:t>
            </a:r>
            <a:r>
              <a:rPr b="1" lang="zh-CN" sz="3200" spc="-1" strike="noStrike">
                <a:solidFill>
                  <a:srgbClr val="3366ff"/>
                </a:solidFill>
                <a:latin typeface="Verdana"/>
              </a:rPr>
              <a:t>芬奇的传世名画《蒙娜丽莎》时，常常被那带有三分柔情、七分迷离的微笑所迷惑。她的微笑时隐时现，难以捉摸，引发了人们无尽的猜测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160020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Verdana"/>
                <a:ea typeface="华文仿宋"/>
              </a:rPr>
              <a:t>④</a:t>
            </a:r>
            <a:r>
              <a:rPr b="1" lang="zh-CN" sz="4400" spc="-1" strike="noStrike">
                <a:solidFill>
                  <a:srgbClr val="3366ff"/>
                </a:solidFill>
                <a:latin typeface="Verdana"/>
                <a:ea typeface="华文仿宋"/>
              </a:rPr>
              <a:t>她已经成了我灵魂的一部分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743200" y="2819160"/>
            <a:ext cx="6019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Verdana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Verdana"/>
              </a:rPr>
              <a:t>我”亲睹了《蒙娜丽莎》，感受到了她的魅力。她的生动，她的温柔，她的美丽，她的神秘，在“我”的心底留下了永不磨灭的印象，她已经成了我灵魂的一部分。这句话写出了蒙娜丽莎给人带来的心灵的震撼以及深刻的印象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09880" y="510552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Verdana"/>
                <a:ea typeface="华文中宋"/>
              </a:rPr>
              <a:t>课外拓展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219320"/>
            <a:ext cx="8458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Verdana"/>
                <a:ea typeface="华文仿宋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仿宋"/>
              </a:rPr>
              <a:t>课文下面还有一幅图，也是达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仿宋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仿宋"/>
              </a:rPr>
              <a:t>芬奇的作品，叫《最后的晚餐》，它是世界最著名的宗教画。关于这幅画还有一个非常有趣的故事呢，请同学们课后去查找有关的资料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58640" y="190080"/>
            <a:ext cx="374652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Verdana"/>
                <a:ea typeface="黑体"/>
              </a:rPr>
              <a:t>达</a:t>
            </a:r>
            <a:r>
              <a:rPr b="1" lang="zh-CN" sz="4800" spc="-1" strike="noStrike">
                <a:solidFill>
                  <a:srgbClr val="800080"/>
                </a:solidFill>
                <a:latin typeface="Verdana"/>
                <a:ea typeface="黑体"/>
              </a:rPr>
              <a:t>·</a:t>
            </a:r>
            <a:r>
              <a:rPr b="1" lang="zh-CN" sz="4800" spc="-1" strike="noStrike">
                <a:solidFill>
                  <a:srgbClr val="800080"/>
                </a:solidFill>
                <a:latin typeface="Verdana"/>
                <a:ea typeface="黑体"/>
              </a:rPr>
              <a:t>芬奇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520" y="2514600"/>
            <a:ext cx="594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达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·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芬奇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(1452—1519)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是意大利文艺复兴时期的一位画家，也是整个欧洲文艺复兴时期最杰出的代表人物之一。他是一位思想深邃、学识渊博、多才多艺的艺术大师、科学巨匠、文艺理论家、大哲学家、诗人、音乐家、工程师和发明家。《蒙娜丽莎》和《最后的晚餐》这两件誉满全球的作品，使达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·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芬奇的名字永垂青史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" y="1295280"/>
            <a:ext cx="2286000" cy="4981680"/>
            <a:chOff x="457200" y="1295280"/>
            <a:chExt cx="2286000" cy="49816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457200" y="1295280"/>
              <a:ext cx="228600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457200" y="4419720"/>
              <a:ext cx="2286000" cy="185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5105520" cy="5181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1371600"/>
            <a:ext cx="32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世界名画——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《蒙娜丽莎》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228600" y="41148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Verdana"/>
                <a:ea typeface="楷体_GB2312"/>
              </a:rPr>
              <a:t>字词正音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20574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探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访  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涉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采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赴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约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3526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雅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捉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摸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衬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托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幻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46483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深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远  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一日  大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彼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岸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tàn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shè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1447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cǎi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fù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2666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yǎ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66688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zhuō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266688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chèn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2920" y="26668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huàn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403848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shēn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038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zhāo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4038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bǐ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010280" y="114300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76720" y="1294920"/>
            <a:ext cx="3047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Verdana"/>
                <a:ea typeface="华文中宋"/>
              </a:rPr>
              <a:t>词语积累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05740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交涉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2209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互相商量，解决彼此间相关的问题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耐人寻味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41911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耐，禁得起；寻味，仔细体会。形容意味深长，值得细细体会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200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转瞬即逝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3200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瞬，一眨眼，转眼；逝，消失。形容一眨眼就消失了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5638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璀璨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5638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形容玉石的光泽鲜艳夺目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Verdana"/>
                <a:ea typeface="华文中宋"/>
              </a:rPr>
              <a:t>初读课文，理解大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42840" y="3276360"/>
            <a:ext cx="6095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</a:rPr>
              <a:t>课文先是描述了大家在纽约大都会博物馆前排队等候欣赏《蒙娜丽莎》的情景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</a:rPr>
              <a:t>接着具体介绍《蒙娜丽莎》画像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</a:rPr>
              <a:t>最后说《蒙娜丽莎》给人带来了心灵的震撼，给人留下了永不磨灭的印象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2362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课文主要讲了什么内容？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828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0" y="175212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华文仿宋"/>
              </a:rPr>
              <a:t>质疑：</a:t>
            </a:r>
            <a:r>
              <a:rPr b="1" lang="zh-CN" sz="4400" spc="-1" strike="noStrike">
                <a:solidFill>
                  <a:srgbClr val="3333ff"/>
                </a:solidFill>
                <a:latin typeface="Verdana"/>
                <a:ea typeface="华文仿宋"/>
              </a:rPr>
              <a:t>课文以介绍《蒙娜丽莎》为写作目的，为什么还要写大家排队等候欣赏画像的情景呢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581280" y="4572000"/>
            <a:ext cx="4419720" cy="1523880"/>
            <a:chOff x="3581280" y="4572000"/>
            <a:chExt cx="4419720" cy="1523880"/>
          </a:xfrm>
        </p:grpSpPr>
        <p:sp>
          <p:nvSpPr>
            <p:cNvPr id="209" name=""/>
            <p:cNvSpPr txBox="1"/>
            <p:nvPr/>
          </p:nvSpPr>
          <p:spPr>
            <a:xfrm>
              <a:off x="6705720" y="4572000"/>
              <a:ext cx="1295280" cy="137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？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3581280" y="4572000"/>
              <a:ext cx="259092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152640" y="182880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华文中宋"/>
                <a:ea typeface="华文中宋"/>
              </a:rPr>
              <a:t>朗读１</a:t>
            </a:r>
            <a:r>
              <a:rPr b="1" lang="zh-CN" sz="4400" spc="-1" strike="noStrike">
                <a:solidFill>
                  <a:srgbClr val="ff33cc"/>
                </a:solidFill>
                <a:latin typeface="华文中宋"/>
                <a:ea typeface="华文中宋"/>
              </a:rPr>
              <a:t>-</a:t>
            </a:r>
            <a:r>
              <a:rPr b="1" lang="zh-CN" sz="44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４自然段，</a:t>
            </a:r>
            <a:br>
              <a:rPr sz="4400"/>
            </a:br>
            <a:r>
              <a:rPr b="1" lang="zh-CN" sz="4400" spc="-1" strike="noStrike">
                <a:solidFill>
                  <a:srgbClr val="ff33cc"/>
                </a:solidFill>
                <a:latin typeface="华文中宋"/>
                <a:ea typeface="华文中宋"/>
              </a:rPr>
              <a:t>细心体会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3733920"/>
            <a:ext cx="755964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Verdana"/>
                <a:ea typeface="华文仿宋"/>
              </a:rPr>
              <a:t>文章通过人们的等待的情景来衬托《蒙娜丽莎》的巨大魅力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2362320"/>
            <a:ext cx="6705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Verdana"/>
                <a:ea typeface="黑体"/>
              </a:rPr>
              <a:t>朗读</a:t>
            </a:r>
            <a:r>
              <a:rPr b="1" lang="zh-CN" sz="4400" spc="-1" strike="noStrike">
                <a:solidFill>
                  <a:srgbClr val="3333ff"/>
                </a:solidFill>
                <a:latin typeface="Verdana"/>
                <a:ea typeface="黑体"/>
              </a:rPr>
              <a:t>5-7</a:t>
            </a:r>
            <a:r>
              <a:rPr b="1" lang="zh-CN" sz="4400" spc="-1" strike="noStrike">
                <a:solidFill>
                  <a:srgbClr val="3333ff"/>
                </a:solidFill>
                <a:latin typeface="Verdana"/>
                <a:ea typeface="黑体"/>
              </a:rPr>
              <a:t>自然段，</a:t>
            </a:r>
            <a:br>
              <a:rPr sz="4400"/>
            </a:br>
            <a:r>
              <a:rPr b="1" lang="zh-CN" sz="4400" spc="-1" strike="noStrike">
                <a:solidFill>
                  <a:srgbClr val="3333ff"/>
                </a:solidFill>
                <a:latin typeface="Verdana"/>
                <a:ea typeface="黑体"/>
              </a:rPr>
              <a:t>感受名画的魅力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42670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课文是怎样介绍《蒙娜丽莎》这幅名画的呢？请指出作者介绍的顺序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0010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2-09T01:12:12Z</dcterms:modified>
  <cp:revision>4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